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81E61-8601-4C02-9598-648B35990F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340D6-2798-4FC8-866F-FAE5352194C6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6D10C-EAA8-4204-A9A9-11A0BFCE3995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CFF29-2B36-44B1-966C-976447034A5A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5AFCD-42B1-46CA-BDBA-EFA1DD0D6671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68FB4-899B-475E-B3D1-09D541552007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D1EBD-451A-46DC-8373-859843F6B0ED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7E6D1-3EA2-4A5A-BFB2-6C772DA0524E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E3640-892B-4C12-9E3A-F6D597806C76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201F8-9B96-4EC8-86BE-91EA3CF184D8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CD6E-8B78-43A0-99CE-1094DB558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99E1-89E9-4C97-867F-D82910E86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FDBB-B639-43CB-8D38-75BBA49BF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C392-1B62-434D-8A5A-D82E7C62A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BA007-325C-450B-BE60-E6877C06F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2AED7-8AA2-4CAE-86E8-A8DC01AB8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AE78E-7055-421E-99E2-6F499B3F7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2ABE8-5C1D-48B7-AA4D-FED86D0C1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C89C2-BE79-44C6-A334-DB8CFABD4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C0E97-8B8C-4658-9BE9-242631045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C9F07-DD18-4D48-BC0F-FB4778E6E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0F8B-2D2C-45E0-95DF-2235BC371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7C35F-D282-4F18-9C5A-9D2EED3E5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9103C-9FD6-4C5F-A540-301117AAD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73669-875B-47D5-A5A5-89024B1F4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8C375-9534-45CE-BE2B-1E9B16BE4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CEAE2-6AC0-4E30-ABEF-C87A699B7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6B985-3FCA-48A3-B7CE-673CB936E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150E8-6BB5-44F3-8A82-394ECBAAE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91E6C-2854-4B11-B18A-90E5509F6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35BAC-380B-4914-8736-A12214875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AD894-F54E-4899-BFBA-DDD9D485D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1E33-C9A9-443E-ABA7-53C0A9BFF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FB702-77D2-4F09-9245-34DFCFA60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6E4F2-D455-4F07-9725-09EC0B66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80E47-3050-4444-B57F-9E16DD4B3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7F3AD-31F7-40A5-B279-1C738779E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F59E1-3038-45F7-9DE0-58A0B671D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4680A-B1BE-44D5-A7FB-17817DAFF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6273D-B263-4923-9F2C-C8BBA1564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B7628-2E49-46F3-9CD5-DC2F9DB41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DB340-0040-47FB-903A-6A6F831C9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64E35-2890-45A6-893C-CA606049C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8BC9-F3E0-4EB2-BAA9-EDDD94E9F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DAD05-CFF8-4334-978C-5408375BA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BE57E-01FA-47FC-92A2-7D2DBA63A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6B5BC-C696-46FF-8677-DB3A5258F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8EEB1-05B1-459E-BB19-6068D040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E82A5-9810-4D88-8DF5-9BBFE9135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0E078-ABD6-438B-8D7C-2BE0CC93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BB1D4-687B-40E5-9622-13C8AC2ED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97AA6-8CD0-4F27-AC20-F113C8B2B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4605D-7762-4E5F-9464-FDA1C0967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92DC5-CF6A-4FC5-A0FA-7097D0F4B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6451-6E50-4DA6-B85F-2D16D462A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C7573-62E0-47F7-A0A4-1DDA61075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DFF41F-0544-43C6-A1D3-1F3DDC81A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EE8BFB-E54D-4EC0-8D97-ADDC4A516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25BDF-EB71-4151-99C0-091030271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C0E42-F060-4B10-951B-2511933F5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8EEC8-AC64-434A-A8C1-853E059CD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F89DA9-5F1A-4889-8F75-64082EE26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3DC42-797A-461D-8DE5-B9401150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ED47C-7C85-447D-A55C-8011C4AC8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0DFB9-973E-416C-998C-7B2DF3B8A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3A67-37F0-403A-B003-CB39C5326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99DF81-AE1E-40AA-AFEA-EC4CB1598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53B386-E238-45F0-8B67-628635FBB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0F68EC-2731-4E86-95D8-FC2C900C6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93192A-833C-4462-BDFC-7B91A9601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EDB89F-6F2C-4586-B1C3-988F59BD1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9FB981-6A66-4C63-A5DD-C8E2D7512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6E1FF5-0547-4A99-8327-DA1125E3E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FFD1A1-AA71-4C80-8D4D-625373BB6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2015D1-4166-4DEC-8CF7-F48A963AB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F599C6-E7D0-428A-9F42-A15CF6360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D1F2-8C1D-4CB2-917A-7F43D00C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2C4BF4-4F99-4800-8FEA-38E58C398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09387B-212D-4FAD-ADE4-30B07845B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9F1C10-1D0E-4DC6-9E6F-67411DB00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DFDA93-70CB-41FE-8296-267D91C88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F3AFD3-6B04-4360-A5B0-D9555DC3E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E47ABC-75F4-4FAA-8FBA-E848603C0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2A9075-9BD6-4266-8BAC-27837F1D3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512429-09F6-46FC-B26F-F3974A649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C71BE8-9A8F-471D-B6D3-D339E6F01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5661B2-4539-409B-B17B-2DFF71CEE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95E6-E9FD-4EBA-A518-832DEDD1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C36A83-2EC8-4593-9CFF-451C79A5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6E4C4E-88B0-4140-9393-CC3AD09D3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C2EDF9-E252-40A6-BC13-BEF122AB8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A865D7-9A9B-4337-A7FB-B2987430F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89FF6F-072C-4B96-A97C-5DE5B8310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C6B4C9-E702-40A0-9DF2-9843018CB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D41328-8E27-4B05-9CB6-689E7A5BE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16AB36-1EAF-4CCD-A0F9-64BFD68D7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1DDA54-3236-4832-9CC0-46CCC17CD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3F32C0-6553-4682-A276-F71469110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B8CC-C14A-4939-8D8A-1DAA2D63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6E9DB7-06B1-4274-9BB7-8C3E74C21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0D664E-E112-46F2-93B9-745AE2AEC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0D1496-2162-4EEE-9171-5E942B54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A5C023-2BC9-49BE-9FED-8CC2F62E5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45D108-634D-46F7-91CF-07B9ED8F2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CE3898-AEF2-4BF2-BA93-5EA5FBCF8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1FB185-835A-4B6D-9E4D-42F21E6AE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C701A-12B8-40CF-A8E0-4BFDB48EA113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94168-3DA7-4E81-A40F-74D20D4E09F8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85B89-D021-4224-B963-6C7DE39D8954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AA061-CC05-441C-881D-1E6F14B5F41B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FB9C0-9C30-408F-A4C2-F229D24A89DA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Isosceles Triangle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674E3-CF97-4082-808A-4038FF2C804F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8F059-2C17-4AB0-AFD2-AEFA460E00F7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E6E43-4CCA-49CF-8495-D3B1C74ABB42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Sampling in Qualitative Research</a:t>
            </a:r>
            <a:br>
              <a:rPr sz="3200"/>
            </a:br>
            <a:br>
              <a:rPr sz="3200"/>
            </a:br>
            <a:r>
              <a:rPr b="0" lang="en-US" sz="2800" spc="-1" strike="noStrike">
                <a:solidFill>
                  <a:srgbClr val="464653"/>
                </a:solidFill>
                <a:latin typeface="Bookman Old Style"/>
              </a:rPr>
              <a:t>Shahaduz Zaman Ph.D.</a:t>
            </a:r>
            <a:br>
              <a:rPr sz="2800"/>
            </a:br>
            <a:r>
              <a:rPr b="0" lang="en-US" sz="2800" spc="-1" strike="noStrike">
                <a:solidFill>
                  <a:srgbClr val="464653"/>
                </a:solidFill>
                <a:latin typeface="Bookman Old Style"/>
              </a:rPr>
              <a:t>Newcastle University, UK </a:t>
            </a:r>
            <a:br>
              <a:rPr sz="2800"/>
            </a:b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0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4586A-6C6F-429F-B4D5-852F670FED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Sample size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0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A435B-209B-43DA-8B75-201F2945E7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How many is enough?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Enough to do justice to the subject, no more, no less</a:t>
            </a: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3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3D467-2CC9-4963-BC81-0FA3311FC3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20 minutes interview with 200 people?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vs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20 hours interview with 2 people?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6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BA8FA-9839-4645-8091-84CFF71411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Freud’s ground breaking theory ‘Psychoanalysis’ -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Based on 10 case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studied over 5 years</a:t>
            </a:r>
            <a:br>
              <a:rPr sz="3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Rule of the thumb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9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37A41-6CEF-42F3-9896-4B571D5A43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ufficienc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Gill Sans MT"/>
              </a:rPr>
              <a:t>Covering maximum variety</a:t>
            </a:r>
            <a:br>
              <a:rPr sz="3200"/>
            </a:br>
            <a:r>
              <a:rPr b="0" lang="en-US" sz="3200" spc="-1" strike="noStrike">
                <a:solidFill>
                  <a:srgbClr val="464653"/>
                </a:solidFill>
                <a:latin typeface="Gill Sans MT"/>
              </a:rPr>
              <a:t>of respondents </a:t>
            </a:r>
            <a:br>
              <a:rPr sz="3200"/>
            </a:br>
            <a:r>
              <a:rPr b="0" lang="en-US" sz="3200" spc="-1" strike="noStrike">
                <a:solidFill>
                  <a:srgbClr val="464653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aturat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Gill Sans MT"/>
              </a:rPr>
              <a:t>Point of redundancy in response</a:t>
            </a:r>
            <a:br>
              <a:rPr sz="3200"/>
            </a:br>
            <a:br>
              <a:rPr sz="3200"/>
            </a:br>
            <a:br>
              <a:rPr sz="2400"/>
            </a:b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2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5E5A1-9F06-448A-98AE-F5AFE023A6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ample determination is influenced by 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Homogeneity of the group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Nature and experience of the researcher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5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6BBA7-D727-450E-BDF7-3A6E8431A6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or phenomenological Studies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Gill Sans MT"/>
              </a:rPr>
              <a:t>At least 6 interviews</a:t>
            </a:r>
            <a:endParaRPr b="0" lang="en-US" sz="32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or grounded theory Studie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Gill Sans MT"/>
              </a:rPr>
              <a:t>12 interviews in each category </a:t>
            </a:r>
            <a:endParaRPr b="0" lang="en-US" sz="32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Greg Guest, Arwen Bunce and Laura Johnson (2006) Field Methods (18, 59)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Sampling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1285560"/>
            <a:ext cx="4040280" cy="6858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fb8cd"/>
                </a:solidFill>
                <a:latin typeface="Gill Sans MT"/>
              </a:rPr>
              <a:t>Quantitative Sampling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4041720" cy="6858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fb8cd"/>
                </a:solidFill>
                <a:latin typeface="Gill Sans MT"/>
              </a:rPr>
              <a:t> </a:t>
            </a:r>
            <a:r>
              <a:rPr b="1" lang="en-GB" sz="2400" spc="-1" strike="noStrike">
                <a:solidFill>
                  <a:srgbClr val="9fb8cd"/>
                </a:solidFill>
                <a:latin typeface="Gill Sans MT"/>
              </a:rPr>
              <a:t>Qualitative Sampling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Slide Number Placeholder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A1C39-CEFF-4A48-A2AA-284241328E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57200" y="2133720"/>
            <a:ext cx="4038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Large samples selected randomly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Sample should be representative of some larger population to which one hopes to generalize research finding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648320" y="2133720"/>
            <a:ext cx="4038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In depth, small samples selected purposively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Sampling driven by the desire to illuminate questions under study, and to increase the scope or range of data exposed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6840" y="1285560"/>
            <a:ext cx="4040280" cy="6858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fb8cd"/>
                </a:solidFill>
                <a:latin typeface="Gill Sans MT"/>
              </a:rPr>
              <a:t>Quantitativ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4041720" cy="6858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fb8cd"/>
                </a:solidFill>
                <a:latin typeface="Gill Sans MT"/>
              </a:rPr>
              <a:t> </a:t>
            </a:r>
            <a:r>
              <a:rPr b="1" lang="en-GB" sz="2400" spc="-1" strike="noStrike">
                <a:solidFill>
                  <a:srgbClr val="9fb8cd"/>
                </a:solidFill>
                <a:latin typeface="Gill Sans MT"/>
              </a:rPr>
              <a:t>Qualitativ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Slide Number Placeholder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471D3-9C63-4E77-A625-CED4A0692B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57200" y="2133720"/>
            <a:ext cx="4038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Begins with a relatively fixed theory, eg. An explanation for something that is to be tested. Theory tested in context of random sample, using large enough </a:t>
            </a:r>
            <a:r>
              <a:rPr b="0" i="1" lang="en-GB" sz="3600" spc="-1" strike="noStrike">
                <a:solidFill>
                  <a:srgbClr val="000000"/>
                </a:solidFill>
                <a:latin typeface="Gill Sans MT"/>
              </a:rPr>
              <a:t>N 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to</a:t>
            </a:r>
            <a:r>
              <a:rPr b="0" lang="en-GB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demonstrate statistical significance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644720" y="2174760"/>
            <a:ext cx="404172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Begins with ‘flexible’ theory, allowing for further revision/ decision regarding boundary of investigation, follows a process such as what data sources are ‘rich’, who should I talk to, what should I look at first. As research progresses, ask what data sources may confirm my understanding (theory) or challenge. 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ampling Strategies </a:t>
            </a:r>
            <a:br>
              <a:rPr sz="3200"/>
            </a:b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0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7D177-0B17-45CC-8A54-558BF47BA6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Maximum vari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Theory based: Sampling in focused manner, based on a priory theory being evalua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Confirming/Disconfirming cas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Extreme or deviant case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Stratified purposeful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Snowball/Chain Sampling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80250-371F-433F-83DE-98BDA12FF8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Picture 4" descr="f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83EAB-B157-4D1F-8351-F33E02D582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Diagram 5"/>
          <p:cNvGrpSpPr/>
          <p:nvPr/>
        </p:nvGrpSpPr>
        <p:grpSpPr>
          <a:xfrm>
            <a:off x="1044360" y="171360"/>
            <a:ext cx="7870680" cy="5091120"/>
            <a:chOff x="1044360" y="171360"/>
            <a:chExt cx="7870680" cy="5091120"/>
          </a:xfrm>
        </p:grpSpPr>
        <p:sp>
          <p:nvSpPr>
            <p:cNvPr id="363" name="_s1028"/>
            <p:cNvSpPr/>
            <p:nvPr/>
          </p:nvSpPr>
          <p:spPr>
            <a:xfrm>
              <a:off x="1044360" y="1597680"/>
              <a:ext cx="4885560" cy="3664800"/>
            </a:xfrm>
            <a:prstGeom prst="donut">
              <a:avLst>
                <a:gd name="adj" fmla="val 16666"/>
              </a:avLst>
            </a:prstGeom>
            <a:solidFill>
              <a:srgbClr val="4646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_s1029"/>
            <p:cNvSpPr/>
            <p:nvPr/>
          </p:nvSpPr>
          <p:spPr>
            <a:xfrm>
              <a:off x="7613640" y="1800000"/>
              <a:ext cx="1301400" cy="813960"/>
            </a:xfrm>
            <a:noFill/>
            <a:ln w="9360">
              <a:solidFill>
                <a:srgbClr val="dde9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ot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opulatio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_s1030"/>
            <p:cNvSpPr/>
            <p:nvPr/>
          </p:nvSpPr>
          <p:spPr>
            <a:xfrm>
              <a:off x="1857240" y="2207160"/>
              <a:ext cx="3256920" cy="2442600"/>
            </a:xfrm>
            <a:prstGeom prst="donut">
              <a:avLst>
                <a:gd name="adj" fmla="val 25000"/>
              </a:avLst>
            </a:prstGeom>
            <a:solidFill>
              <a:srgbClr val="727ca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_s1031"/>
            <p:cNvSpPr/>
            <p:nvPr/>
          </p:nvSpPr>
          <p:spPr>
            <a:xfrm>
              <a:off x="7613640" y="985680"/>
              <a:ext cx="1301400" cy="813960"/>
            </a:xfrm>
            <a:noFill/>
            <a:ln w="9360">
              <a:solidFill>
                <a:srgbClr val="dde9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ligi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opulatio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_s1032"/>
            <p:cNvSpPr/>
            <p:nvPr/>
          </p:nvSpPr>
          <p:spPr>
            <a:xfrm>
              <a:off x="2673000" y="2819160"/>
              <a:ext cx="1628280" cy="1221840"/>
            </a:xfrm>
            <a:prstGeom prst="ellipse">
              <a:avLst/>
            </a:prstGeom>
            <a:solidFill>
              <a:srgbClr val="b292c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_s1033"/>
            <p:cNvSpPr/>
            <p:nvPr/>
          </p:nvSpPr>
          <p:spPr>
            <a:xfrm>
              <a:off x="7613640" y="171360"/>
              <a:ext cx="1301400" cy="813960"/>
            </a:xfrm>
            <a:noFill/>
            <a:ln w="9360">
              <a:solidFill>
                <a:srgbClr val="dde9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ampl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5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0C78F-DDC9-4FB8-AC2B-2B070854CA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Purposive sampling should never be confused with sampling for convenience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464653"/>
                </a:solidFill>
                <a:latin typeface="Bookman Old Style"/>
              </a:rPr>
              <a:t>Features of qualitative sampling</a:t>
            </a:r>
            <a:br>
              <a:rPr sz="2900"/>
            </a:b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8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021F7-4ACC-4F7F-9ADB-75DFDA2DE0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Qualitative sampling is systematic but flexibl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Guided by clear research question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Sample evolves as the study progresse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5005E-4B78-4D38-8A53-BF971F801D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Sample units are selected serially. Who and what comes next depends on who and what comes before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Selection continues to the point of redundancy.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Qualitative sampling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4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4C1AF-5320-4E31-AF7B-E9742356A4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 process (Plan-Revise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agmatic (Time, money, personnel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ake considerations explicit/Justify what has been don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Warning in qualitative sampling</a:t>
            </a:r>
            <a:br>
              <a:rPr sz="2900"/>
            </a:b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7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69BAE-7A47-4591-8714-1CF52E844F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ot too thi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ot selecting the exotic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ot fitting researchers ideal perception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oes qualitative research present bias results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at is the Generalizibility  of qualitative research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100"/>
            </a:br>
            <a:r>
              <a:rPr b="1" lang="en-US" sz="3100" spc="-1" strike="noStrike">
                <a:solidFill>
                  <a:srgbClr val="464653"/>
                </a:solidFill>
                <a:latin typeface="Bookman Old Style"/>
              </a:rPr>
              <a:t>Biases</a:t>
            </a:r>
            <a:endParaRPr b="0" lang="en-US" sz="31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efective Instrumen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bserver bia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lection bia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formation bia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ffect of observe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64653"/>
                </a:solidFill>
                <a:latin typeface="Gill Sans MT"/>
              </a:rPr>
              <a:t>Bias is (partly) unavoidable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53"/>
                </a:solidFill>
                <a:latin typeface="Bookman Old Style"/>
              </a:rPr>
              <a:t>Dealing with bias in  Qualitative research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Triangulation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Reflexivity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Transferability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64653"/>
                </a:solidFill>
                <a:latin typeface="Bookman Old Style"/>
              </a:rPr>
              <a:t>Types of triangulation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685800" y="15235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Triangulation of method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Triangulation of sour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Triangulation of research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Triangulation of perspectiv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2" descr="image_0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464653"/>
                </a:solidFill>
                <a:latin typeface="Bookman Old Style"/>
              </a:rPr>
              <a:t>Quantitative Sampling : Random Sampling 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0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380A3-9EC0-455E-856F-A537092156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ample that is representative in a statistical way of the whole population of interes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 which each member of the population has an equal chances of being selecte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64653"/>
                </a:solidFill>
                <a:latin typeface="Bookman Old Style"/>
              </a:rPr>
              <a:t>Objectivity vs Reflexivity</a:t>
            </a:r>
            <a:br>
              <a:rPr sz="2500"/>
            </a:br>
            <a:endParaRPr b="0" lang="en-US" sz="2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39211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Objectivity: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term generally implies maintaining distance between the observer and the observed and minimizing any possible influence of the researchers value on the process of inquir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222880" y="1752480"/>
            <a:ext cx="39211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Reflexivity: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way of knowing that even as a co- participant in the inquiry the researcher has maintained the distinction between personal values and those of the participants.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Empathic Neutralit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t suggests that there is a middle ground between becoming too involved which can cloud judgment, and remaining too distant, which can reduce understanding. 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Reflexivit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searcher’s critical self awareness -is a vital process in which you question and observe yourself at the same time you listen to and observe the participant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464653"/>
                </a:solidFill>
                <a:latin typeface="Bookman Old Style"/>
              </a:rPr>
              <a:t>Generalizibility</a:t>
            </a:r>
            <a:endParaRPr b="0" lang="en-US" sz="21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otal Generalizatio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tatistical Generalizatio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atural Generalization (Transferability)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64653"/>
                </a:solidFill>
                <a:latin typeface="Bookman Old Style"/>
              </a:rPr>
              <a:t>Generalizibility vs Transferability</a:t>
            </a:r>
            <a:br>
              <a:rPr sz="2500"/>
            </a:br>
            <a:endParaRPr b="0" lang="en-US" sz="2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39211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Generalizibility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ether findings of the research can be generalized to the wider population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5222880" y="1752480"/>
            <a:ext cx="39211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Transferability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ether the conclusions of a study are transferable to other contex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</a:rPr>
              <a:t>Qualitative Sampling: Purposive </a:t>
            </a:r>
            <a:endParaRPr b="0" lang="en-US" sz="4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672E1-E1A5-4F08-81EE-190545EAF8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In contrast to random sampling, </a:t>
            </a:r>
            <a:r>
              <a:rPr b="1" i="1" lang="en-US" sz="2800" spc="-1" strike="noStrike">
                <a:solidFill>
                  <a:srgbClr val="000000"/>
                </a:solidFill>
                <a:latin typeface="Gill Sans MT"/>
              </a:rPr>
              <a:t>information rich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 cases are selected according to the purpose of the stud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In order to get a holistic picture sampling  includes a serious search for both positive and negative cases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Theoretical Sampling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Motto of qualitative sampling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6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B6F4B-9A2B-4A1A-BBE9-30A65941CF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mall is beautifu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Lot about little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464653"/>
                </a:solidFill>
                <a:latin typeface="Bookman Old Style"/>
              </a:rPr>
              <a:t>Aim of sampling in qualitative research </a:t>
            </a: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9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FBF72-F650-4F5B-B1DF-6718024DDE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The primary purpose of sampling is to collect specific cases, events, or actions that can clarify and deepen understandin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2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F22CD-CD22-4AA7-A798-BF41AD8D16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readth Versus Depth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roader range of experiences for a smaller number of people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Sampling uni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5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3917B-F511-4A43-810B-9DD4249F93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Quantitative Sampling samples peopl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Qualitative Sampling samples people, time, site.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B1DC8-BF40-4AD9-93EB-9CF97FDA08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85800" y="38052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ampling people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ypical case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eviant cases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ampling sit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rivat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ublic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ampling tim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ay/ night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ason/Personal occurrence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1:02:25Z</dcterms:created>
  <dc:creator>Neeor</dc:creator>
  <dc:description/>
  <dc:language>en-US</dc:language>
  <cp:lastModifiedBy>Zaman</cp:lastModifiedBy>
  <dcterms:modified xsi:type="dcterms:W3CDTF">2013-12-11T21:12:33Z</dcterms:modified>
  <cp:revision>37</cp:revision>
  <dc:subject/>
  <dc:title>Selecting Unit of Study Sampling</dc:title>
</cp:coreProperties>
</file>